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A36-BC62-4D8E-AE39-12176F6A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D4A-1B74-49EC-8A7B-DB1F50B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247-D3FD-440D-A322-F4DC5CFE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973-2F2E-4CD6-AF03-D9D99F88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4B89-E0AF-4867-A60A-9AD82AA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F071-FC9F-4D0B-87F9-3952006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D0E-389F-47CE-A5B3-D57DC766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DADD-A779-4629-87BF-34D293E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EB4C-8ADD-466B-A2C6-5B3F2DD9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2762-3F93-4CE2-99FF-B5C5B9D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1F1-9BE4-4A78-B8C3-8C7ABA23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BC9-016B-483B-B904-31B1B3B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0416-883E-4519-8D29-5A2CE33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8EC-4AE6-43C8-B120-7468706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6C6-1544-470B-8491-0DC6C11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3C1-3E98-42A7-9178-026A0E12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EA96-1E9E-47D2-9E96-C627369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A45-4FBE-44CD-A9B4-A1E8DB5E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F2F-4D90-4AAD-AFCE-98A9283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0DD-1D9E-4284-AA14-C99A7BB2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53F-B94D-429A-B2B0-C7A5474B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534-F4B9-4FFA-9471-BC26C61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CFD-94C1-4EDA-8A30-FDA9DA0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5C3-92EF-4498-AAE3-7F5430CD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5BA-C0D6-4DEA-8CFA-FF70D2F1F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617-E397-4505-A82E-996D0FB45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8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Bookman Old Style"/>
              </a:rPr>
              <a:t>Класс насекомы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24000" y="5105520"/>
            <a:ext cx="49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бова Надеж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34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D:\ТАША\картинки\бабочки , насекомые\animated_fly.gif"/>
          <p:cNvPicPr/>
          <p:nvPr/>
        </p:nvPicPr>
        <p:blipFill>
          <a:blip r:embed="rId1"/>
          <a:stretch/>
        </p:blipFill>
        <p:spPr>
          <a:xfrm>
            <a:off x="5796000" y="3860640"/>
            <a:ext cx="2241360" cy="224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ТАША\картинки\бабочки , насекомые\beeсм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947880"/>
            <a:ext cx="15112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15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М., 1980 г., 450 с. Яхонтов В.В. Экология насекомых. М.: Высшая школа, 1969 г. 488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Кожанчиков И. В. Методы исследования экологии насекомых. М., “Высшая школа”, 1961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Литература по лесной энтомологии. Общие вопросы лесной энтомологии: Аверкиев И. С. Атлас вреднейших насекомых леса. 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3280" y="260280"/>
            <a:ext cx="594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f2fd"/>
                </a:solidFill>
                <a:latin typeface="Bookman Old Style"/>
              </a:rPr>
              <a:t>Цель проекта: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 Изучить многообразие насекомых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и их роль в природ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468520"/>
            <a:ext cx="3127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Задачи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1.Расширить знания учащихся о многообразии насекомых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2.Показать их значение в разнообразных природных сообществах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3.Объяснить особенности строения и жизнедеятельности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4.Совершенствовать умение узнавать насекомых на рисунках, таблица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0160" y="475920"/>
            <a:ext cx="88534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Это самый многочисленный класс животных на Земле. Известно около </a:t>
            </a:r>
            <a:r>
              <a:rPr b="0" i="1" lang="en-US" sz="2800" spc="-1" strike="noStrike">
                <a:solidFill>
                  <a:srgbClr val="fcbaba"/>
                </a:solidFill>
                <a:latin typeface="Bookman Old Style"/>
              </a:rPr>
              <a:t>1.5 млн.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 в насекомых. 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Обладают наибольшим разнообразием среди всех остальных животных на Земле; включают бабочек, жуков, мух, муравьёв, пчёл и других.</a:t>
            </a:r>
            <a:r>
              <a:rPr b="0" i="1" lang="en-US" sz="4400" spc="-1" strike="noStrike">
                <a:solidFill>
                  <a:srgbClr val="ffffb7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 Насекомые приспособились к самым различным средам обитания; единственные представители беспозвоночных животных способных летат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360" y="4621320"/>
            <a:ext cx="3168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Bookman Old Style"/>
              </a:rPr>
              <a:t>Роль насекомых в природе и в жизни челове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600200"/>
            <a:ext cx="8228880" cy="4524840"/>
            <a:chOff x="457200" y="1600200"/>
            <a:chExt cx="8228880" cy="4524840"/>
          </a:xfrm>
        </p:grpSpPr>
        <p:cxnSp>
          <p:nvCxnSpPr>
            <p:cNvPr id="109" name="_s9224"/>
            <p:cNvCxnSpPr>
              <a:stCxn id="110" idx="1"/>
              <a:endCxn id="111" idx="2"/>
            </p:cNvCxnSpPr>
            <p:nvPr/>
          </p:nvCxnSpPr>
          <p:spPr>
            <a:xfrm rot="10800000">
              <a:off x="4570200" y="2730600"/>
              <a:ext cx="305280" cy="113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9225"/>
            <p:cNvCxnSpPr>
              <a:stCxn id="113" idx="3"/>
              <a:endCxn id="111" idx="2"/>
            </p:cNvCxnSpPr>
            <p:nvPr/>
          </p:nvCxnSpPr>
          <p:spPr>
            <a:xfrm flipV="1">
              <a:off x="4266000" y="2730960"/>
              <a:ext cx="305280" cy="113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9226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040720" y="2260080"/>
              <a:ext cx="2263320" cy="320400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9227"/>
            <p:cNvCxnSpPr>
              <a:stCxn id="117" idx="0"/>
              <a:endCxn id="111" idx="2"/>
            </p:cNvCxnSpPr>
            <p:nvPr/>
          </p:nvCxnSpPr>
          <p:spPr>
            <a:xfrm flipV="1" rot="16200000">
              <a:off x="3973680" y="3327120"/>
              <a:ext cx="2263320" cy="106992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9228"/>
            <p:cNvCxnSpPr>
              <a:stCxn id="119" idx="0"/>
              <a:endCxn id="111" idx="2"/>
            </p:cNvCxnSpPr>
            <p:nvPr/>
          </p:nvCxnSpPr>
          <p:spPr>
            <a:xfrm flipH="1" flipV="1" rot="5400000">
              <a:off x="2907000" y="3329640"/>
              <a:ext cx="2263320" cy="106560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9229"/>
            <p:cNvCxnSpPr>
              <a:stCxn id="121" idx="0"/>
              <a:endCxn id="111" idx="2"/>
            </p:cNvCxnSpPr>
            <p:nvPr/>
          </p:nvCxnSpPr>
          <p:spPr>
            <a:xfrm flipH="1" flipV="1" rot="5400000">
              <a:off x="1839600" y="2262600"/>
              <a:ext cx="2263320" cy="3199680"/>
            </a:xfrm>
            <a:prstGeom prst="bentConnector3">
              <a:avLst>
                <a:gd name="adj1" fmla="val 50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9230"/>
            <p:cNvSpPr/>
            <p:nvPr/>
          </p:nvSpPr>
          <p:spPr>
            <a:xfrm>
              <a:off x="3656160" y="160020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6600"/>
                  </a:solidFill>
                  <a:uFillTx/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9231"/>
            <p:cNvSpPr/>
            <p:nvPr/>
          </p:nvSpPr>
          <p:spPr>
            <a:xfrm>
              <a:off x="45720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Насекомы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живущие в почв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пособствуют её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ыхлению 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набжению кислоро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9232"/>
            <p:cNvSpPr/>
            <p:nvPr/>
          </p:nvSpPr>
          <p:spPr>
            <a:xfrm>
              <a:off x="259128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Являются пище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для друг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животн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9233"/>
            <p:cNvSpPr/>
            <p:nvPr/>
          </p:nvSpPr>
          <p:spPr>
            <a:xfrm>
              <a:off x="4725360" y="499392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Питаются растениям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граничивают 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ост  и развит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9234"/>
            <p:cNvSpPr/>
            <p:nvPr/>
          </p:nvSpPr>
          <p:spPr>
            <a:xfrm>
              <a:off x="6859440" y="4993920"/>
              <a:ext cx="182664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Уничтожают труп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и органическ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статк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выполня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санитарную ро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9235"/>
            <p:cNvSpPr/>
            <p:nvPr/>
          </p:nvSpPr>
          <p:spPr>
            <a:xfrm>
              <a:off x="2436480" y="329688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пыл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цветков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раст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(пчела, шмел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дневные бабочки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9236"/>
            <p:cNvSpPr/>
            <p:nvPr/>
          </p:nvSpPr>
          <p:spPr>
            <a:xfrm>
              <a:off x="4875840" y="3296880"/>
              <a:ext cx="1829160" cy="113112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Питаются друг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насекомым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ограничив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их числен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11280" y="1125360"/>
            <a:ext cx="8281080" cy="4511880"/>
            <a:chOff x="611280" y="1125360"/>
            <a:chExt cx="8281080" cy="4511880"/>
          </a:xfrm>
        </p:grpSpPr>
        <p:cxnSp>
          <p:nvCxnSpPr>
            <p:cNvPr id="123" name="_s31751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749560" y="1931400"/>
              <a:ext cx="902880" cy="2899080"/>
            </a:xfrm>
            <a:prstGeom prst="bentConnector3">
              <a:avLst>
                <a:gd name="adj1" fmla="val 20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31752"/>
            <p:cNvCxnSpPr>
              <a:stCxn id="127" idx="0"/>
              <a:endCxn id="125" idx="2"/>
            </p:cNvCxnSpPr>
            <p:nvPr/>
          </p:nvCxnSpPr>
          <p:spPr>
            <a:xfrm flipV="1">
              <a:off x="4751640" y="2929680"/>
              <a:ext cx="3240" cy="902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31753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850840" y="1931400"/>
              <a:ext cx="902880" cy="2899080"/>
            </a:xfrm>
            <a:prstGeom prst="bentConnector3">
              <a:avLst>
                <a:gd name="adj1" fmla="val 20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31754"/>
            <p:cNvSpPr/>
            <p:nvPr/>
          </p:nvSpPr>
          <p:spPr>
            <a:xfrm>
              <a:off x="3509640" y="11253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31755"/>
            <p:cNvSpPr/>
            <p:nvPr/>
          </p:nvSpPr>
          <p:spPr>
            <a:xfrm>
              <a:off x="61128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редители раст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саранча, медведки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тли, яблонный цветоед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свекловичны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долгоносик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31756"/>
            <p:cNvSpPr/>
            <p:nvPr/>
          </p:nvSpPr>
          <p:spPr>
            <a:xfrm>
              <a:off x="350964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Переносчик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озбудител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болезн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комнатная .муха)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1757"/>
            <p:cNvSpPr/>
            <p:nvPr/>
          </p:nvSpPr>
          <p:spPr>
            <a:xfrm>
              <a:off x="6408000" y="3832560"/>
              <a:ext cx="2484360" cy="1804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паразит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(бычий кожный овод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6600"/>
                  </a:solidFill>
                  <a:latin typeface="Arial"/>
                </a:rPr>
                <a:t>вши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92720" y="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3851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Особенности строения насеком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2" descr="D:\ТАША\картинки\бабочки , насекомые\C14-5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71628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При изучении данной темы мы, действительно узнаем, что Класс Насекомые занимает самую большую численность фауны нашей планеты.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Познакомились с морфологией насекомого, а также выяснили их роль в природе и в жизни челове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92360" y="549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77080" y="5345280"/>
            <a:ext cx="22669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D:\ТАША\картинки\бабочки , насекомые\animated_ladybug.gif"/>
          <p:cNvPicPr/>
          <p:nvPr/>
        </p:nvPicPr>
        <p:blipFill>
          <a:blip r:embed="rId2"/>
          <a:stretch/>
        </p:blipFill>
        <p:spPr>
          <a:xfrm>
            <a:off x="611280" y="260280"/>
            <a:ext cx="1376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21:25:32Z</dcterms:created>
  <dc:creator>надюша</dc:creator>
  <dc:description/>
  <dc:language>en-US</dc:language>
  <cp:lastModifiedBy>надюша</cp:lastModifiedBy>
  <dcterms:modified xsi:type="dcterms:W3CDTF">2011-05-12T16:42:04Z</dcterms:modified>
  <cp:revision>3</cp:revision>
  <dc:subject/>
  <dc:title>Класс насекомые</dc:title>
</cp:coreProperties>
</file>